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DEA-0F54-4C0E-BA15-B978C815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952-3C9A-4B51-B0BE-49DA8F2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F92-97B5-48B9-B981-630AB79B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67A-4511-49D1-8FF7-04275932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80F0-2402-40C1-BCDA-F5117445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27B-06F4-4D12-851F-1CC0BE7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74BC-ED44-42C3-80DC-5514A47A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B436-A6BB-471B-AC05-2C5498DE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C9D-D302-45F7-934B-20E49E9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016-C4D7-441C-B4E5-1CC99C83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E5F-C178-4D16-A811-CC87DB3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795-1533-495B-9468-ED45DE8B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AC9-3DE4-4693-A159-DD3BD68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302A-CA30-4790-875A-28E570B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EDD-A578-4A73-A1CF-7798132E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6A2-0830-453E-BEBE-1C3BFEFB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F79-B5D9-41FA-ADB9-CFE77A2A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ADD-13FE-4EA7-8C14-C91E83B1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0A1-C28B-44CC-872B-F875C7CB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961-2AAF-46AE-BDE5-E74BD68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7E9-19AB-440A-96B2-7B508851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4CF-0B13-4F16-82FF-EC8FF2A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270-20E1-4101-BC57-C83C244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3A4-1FC9-4382-A0ED-6691B90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209-AE03-4DA2-AC53-A85A80A13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3EE-E02C-4F27-A28B-8F1B6FA13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ypes of Governmen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ief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tocra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in hands of single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itarian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ctator controls all aspects of life (Hitler- Nazi party, Mussolini- fascism, Stalin- Communist dicta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arch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ing, queen, or emperor has supreme authority (Saudi Arabia, Europe 1400s-1600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itutional Monarc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King, queen, or emperor mainly ceremonial, answer to elected legislature (U.K., Jap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These are usually not really monarchies in practice, just in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ligarch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in hands of small, powerfu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get power from number of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itary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us influence (Theocrac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(Communist par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mocra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by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democra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ople govern themselves by voting on issues as individual citizens (Ancient Gree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rect democracy (republic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eople elect representatives with power to make decisions (Ancient Rome, U.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irect Democracy,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.S. republ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branches of government (legislative, executive, judic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ographic elections for legislative (Congress), national elections with Electoral College for executive (Presi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 for individuals, usually from 2 major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itish Parlia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 (Prime Minister &amp; cabinet) &amp; legislative (Parliament) branches both in elected assem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 choose parties, not individuals (makes stronger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r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 of Commons (elected) has more power than House of Lords (honor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20:01:27Z</dcterms:created>
  <dc:creator>L-Net</dc:creator>
  <dc:description/>
  <dc:language>en-US</dc:language>
  <cp:lastModifiedBy>L-Net</cp:lastModifiedBy>
  <dcterms:modified xsi:type="dcterms:W3CDTF">2011-01-26T16:37:27Z</dcterms:modified>
  <cp:revision>13</cp:revision>
  <dc:subject/>
  <dc:title>Types of Government</dc:title>
</cp:coreProperties>
</file>